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477-6E86-4872-BE53-97062941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9D6-0C65-4AFF-865D-4A0C6053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6A5-83AA-4288-B4AA-E9B433C0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7EC-E675-4355-B6BF-24DFEEFC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D9C-CFCF-4F35-A4AA-5F0B9672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A6A-FFC9-44BB-A4C3-59B4B20B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C30-1A2A-495F-8CFB-AA600C19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61F-D260-473B-BF61-21BC4271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448-0DF4-4ACF-A0EA-B969268E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128-C54E-48E3-8F47-F86DF8B4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8C1-41BC-481D-83A4-164BE445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27C-7FA3-4118-9AD4-BC430EB3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9B58-3309-4847-8261-F62B812B1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413000"/>
            <a:ext cx="82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2320">
                  <a:solidFill>
                    <a:srgbClr val="0099ff"/>
                  </a:solidFill>
                  <a:miter/>
                </a:ln>
                <a:solidFill>
                  <a:srgbClr val="66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THUR  CONAN  DOYLE</a:t>
            </a:r>
            <a:endParaRPr b="0" lang="en-US" sz="4000" spc="1" strike="noStrike">
              <a:ln w="22320">
                <a:solidFill>
                  <a:srgbClr val="0099ff"/>
                </a:solidFill>
                <a:miter/>
              </a:ln>
              <a:solidFill>
                <a:srgbClr val="66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4149720"/>
            <a:ext cx="63784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66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: ANA ISABEL CRESPO</a:t>
            </a:r>
            <a:endParaRPr b="0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66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hur Ignatius Conan Doyle (1859-1930),was born on May 22, 1859, in Edinburgh, Scot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yle, British novelist, and detective-story writer, creator of Sherlock Hol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ducated in the University of Edinburgh. From 1882 to 1890 he practiced medicine in Southsea,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404640"/>
            <a:ext cx="73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2320">
                  <a:solidFill>
                    <a:srgbClr val="ff6600"/>
                  </a:solidFill>
                  <a:miter/>
                </a:ln>
                <a:solidFill>
                  <a:srgbClr val="ffcc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IOGRAPHY</a:t>
            </a:r>
            <a:endParaRPr b="0" lang="en-US" sz="4000" spc="1" strike="noStrike">
              <a:ln w="22320">
                <a:solidFill>
                  <a:srgbClr val="ff6600"/>
                </a:solidFill>
                <a:miter/>
              </a:ln>
              <a:solidFill>
                <a:srgbClr val="ffcc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924360" cy="37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i="1" lang="es-ES" sz="2400" spc="-1" strike="noStrike">
                <a:solidFill>
                  <a:srgbClr val="000000"/>
                </a:solidFill>
                <a:latin typeface="Arial Black"/>
              </a:rPr>
              <a:t>The return of Sherlock Hol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- Adventuring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- A Study in Southsea: From Bush Villas to Baker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-The True Crimes Investig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640" y="260280"/>
            <a:ext cx="756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1680">
                  <a:solidFill>
                    <a:srgbClr val="cc00cc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ME BOOKS</a:t>
            </a:r>
            <a:endParaRPr b="0" lang="en-US" sz="4000" spc="1" strike="noStrike">
              <a:ln w="31680">
                <a:solidFill>
                  <a:srgbClr val="cc00cc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248360" cy="2335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1586160" cy="259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189000"/>
            <a:ext cx="80643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PHOTOS</a:t>
            </a:r>
            <a:endParaRPr b="1" lang="en-US" sz="6600" spc="1" strike="noStrike">
              <a:ln w="316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2840040" cy="453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51640" y="1557360"/>
            <a:ext cx="3211200" cy="4724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203640" y="1989000"/>
            <a:ext cx="2340000" cy="3384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3817800" cy="364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50920" y="189000"/>
            <a:ext cx="85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Fax"/>
              </a:rPr>
              <a:t>MORE PHOTOS</a:t>
            </a:r>
            <a:endParaRPr b="1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Fax"/>
              <a:ea typeface="Lucida Fax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780000" y="1628640"/>
            <a:ext cx="2662200" cy="443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6607080" y="2852640"/>
            <a:ext cx="2536920" cy="3700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8:41:08Z</dcterms:created>
  <dc:creator>Alumno50</dc:creator>
  <dc:description/>
  <dc:language>en-US</dc:language>
  <cp:lastModifiedBy>Alumno50</cp:lastModifiedBy>
  <dcterms:modified xsi:type="dcterms:W3CDTF">2008-06-09T08:47:06Z</dcterms:modified>
  <cp:revision>5</cp:revision>
  <dc:subject/>
  <dc:title>Diapositiva 1</dc:title>
</cp:coreProperties>
</file>